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AE40A-F7AE-4B2C-9CB8-75D11E32C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35D0-4439-4A39-869A-61327ABAD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A2DEB-E200-4FBF-B26A-183AE0A65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707DA-0F9E-49CF-AFCA-EC147DE8E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F065D-F14C-4EED-BB38-55AEB031A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D90B1-4014-46A2-9796-3A207C0EC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6E85C-3975-4F73-BD30-E0C8D8678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FAFD4-A700-4A8C-8F2B-D42E0E343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3E0CA-7EB7-49F1-AD6F-A78FA9EDF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D580F-09B7-4BBE-930D-73E5BD28C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10847-75DA-4616-85D9-343B966AE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4545-7732-45EB-8765-943C9351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1B782-DB75-4AE4-83A3-D33B0127D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41986-F27A-47AD-87E0-B3AB2C53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4888E-5B0C-441C-9202-710F27346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D1A91-E7B9-4441-BE11-40BBA6397C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20B6F1-F78A-4582-B7F0-4A0E02D81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3441-AF4D-4A96-86BA-D674F7DA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33D12-07BB-4E72-BAE5-75025D085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ECFC0-E0B2-4117-9BE9-05B83B5C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2D16-4E50-4B34-9CFA-EC262666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87753-3132-4815-A33D-654DD2B8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D24FE-41F1-4945-935C-FF86B6A2B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8F4E-D264-48D4-A2DB-915E8AD1F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735480" indent="-28296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13148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8400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2036520" indent="-226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8D75-3BD6-41FB-9C15-1851A55B62B2}"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32D3-E1A1-412B-A307-E5EA6CF90376}" type="slidenum">
              <a:rPr b="0"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00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0033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00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9/5  What is Science?</a:t>
            </a:r>
            <a:endParaRPr b="0" lang="en-US" sz="4400" spc="-1" strike="noStrike">
              <a:solidFill>
                <a:srgbClr val="003300"/>
              </a:solidFill>
              <a:latin typeface="Arial"/>
            </a:endParaRPr>
          </a:p>
        </p:txBody>
      </p:sp>
      <p:sp>
        <p:nvSpPr>
          <p:cNvPr id="85" name="PlaceHolder 2"/>
          <p:cNvSpPr>
            <a:spLocks noGrp="1"/>
          </p:cNvSpPr>
          <p:nvPr>
            <p:ph type="subTitle"/>
          </p:nvPr>
        </p:nvSpPr>
        <p:spPr>
          <a:xfrm>
            <a:off x="1447920" y="2819520"/>
            <a:ext cx="6400800" cy="1752480"/>
          </a:xfrm>
          <a:prstGeom prst="rect">
            <a:avLst/>
          </a:prstGeom>
          <a:noFill/>
          <a:ln w="0">
            <a:noFill/>
          </a:ln>
        </p:spPr>
        <p:txBody>
          <a:bodyPr lIns="90000" rIns="90000" tIns="46800" bIns="46800" anchor="t">
            <a:noAutofit/>
          </a:bodyPr>
          <a:p>
            <a:pPr marL="609480" indent="-6094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urn in your homework to the correct class in-box.</a:t>
            </a:r>
            <a:endParaRPr b="0" lang="en-US" sz="3200" spc="-1" strike="noStrike">
              <a:solidFill>
                <a:srgbClr val="003300"/>
              </a:solidFill>
              <a:latin typeface="Arial"/>
            </a:endParaRPr>
          </a:p>
          <a:p>
            <a:pPr marL="609480" indent="-6094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n discussion with your table partner, write in your notebook a summary of what you learned yesterda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In Our Future…</a:t>
            </a:r>
            <a:endParaRPr b="0" lang="en-US" sz="4400" spc="-1" strike="noStrike">
              <a:solidFill>
                <a:srgbClr val="003300"/>
              </a:solidFill>
              <a:latin typeface="Arial"/>
            </a:endParaRPr>
          </a:p>
        </p:txBody>
      </p:sp>
      <p:sp>
        <p:nvSpPr>
          <p:cNvPr id="10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Next week, we focus on how to do science, an overview of scientific inquiry.</a:t>
            </a:r>
            <a:endParaRPr b="0" lang="en-US" sz="28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it may be different from middle school.</a:t>
            </a:r>
            <a:endParaRPr b="0" lang="en-US" sz="2400" spc="-1" strike="noStrike">
              <a:solidFill>
                <a:srgbClr val="00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id you all bring your materials?  Always bring them from now on!</a:t>
            </a:r>
            <a:endParaRPr b="0" lang="en-US" sz="28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hat will you do with the handouts you’ve received?</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ow have you been taking notes?</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Homework</a:t>
            </a:r>
            <a:endParaRPr b="0" lang="en-US" sz="4400" spc="-1" strike="noStrike">
              <a:solidFill>
                <a:srgbClr val="0033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f you didn’t turn in the lab safety contract or student survey today, they’re now overdue and worth 50% less.  You must still turn them in.  Not turning them in = not allowed to do lab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PLORNT</a:t>
            </a:r>
            <a:endParaRPr b="0" lang="en-US" sz="4400" spc="-1" strike="noStrike">
              <a:solidFill>
                <a:srgbClr val="0033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nish PLORNT off from yesterda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ays of Knowing</a:t>
            </a:r>
            <a:endParaRPr b="0" lang="en-US" sz="4400" spc="-1" strike="noStrike">
              <a:solidFill>
                <a:srgbClr val="0033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nk about information you have and how you’ve come to it.  Brainstorm at your table, write in your notebook:</a:t>
            </a:r>
            <a:endParaRPr b="0" lang="en-US" sz="3200" spc="-1" strike="noStrike">
              <a:solidFill>
                <a:srgbClr val="003300"/>
              </a:solidFill>
              <a:latin typeface="Arial"/>
            </a:endParaRPr>
          </a:p>
          <a:p>
            <a:pPr lvl="1" marL="743040" indent="-28584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here did it come from, how did it get to you?  </a:t>
            </a:r>
            <a:endParaRPr b="0" lang="en-US" sz="2800" spc="-1" strike="noStrike">
              <a:solidFill>
                <a:srgbClr val="003300"/>
              </a:solidFill>
              <a:latin typeface="Arial"/>
            </a:endParaRPr>
          </a:p>
          <a:p>
            <a:pPr lvl="1" marL="743040" indent="-28584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In how many ways in your lifetime have you come to know a thing?</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ays of Knowing</a:t>
            </a:r>
            <a:endParaRPr b="0" lang="en-US" sz="4400" spc="-1" strike="noStrike">
              <a:solidFill>
                <a:srgbClr val="0033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ots of ways of knowing, which we could group into categories.</a:t>
            </a:r>
            <a:endParaRPr b="0" lang="en-US" sz="3200" spc="-1" strike="noStrike">
              <a:solidFill>
                <a:srgbClr val="0033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cience is one, and for certain KINDS of things, it is arguably our most powerful way of knowing.  With other things, it is entirely powerles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Science (and this class) Are Not…</a:t>
            </a:r>
            <a:endParaRPr b="0" lang="en-US" sz="4400" spc="-1" strike="noStrike">
              <a:solidFill>
                <a:srgbClr val="0033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 story.</a:t>
            </a:r>
            <a:endParaRPr b="0" lang="en-US" sz="2000" spc="-1" strike="noStrike">
              <a:solidFill>
                <a:srgbClr val="003300"/>
              </a:solidFill>
              <a:latin typeface="Arial"/>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make the mistake of confusing knowledge about science with your beliefs about the world.  Don't make the mistake of confusing knowledge about science with knowledge obtained through other ways of knowing.  They are not the same thing!</a:t>
            </a:r>
            <a:endParaRPr b="0" lang="en-US" sz="2000" spc="-1" strike="noStrike">
              <a:solidFill>
                <a:srgbClr val="003300"/>
              </a:solidFill>
              <a:latin typeface="Arial"/>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as your science teacher, can tell you about science.  But I cannot tell you what to believe.  (Nor do I want to!)  Personal beliefs are different from knowledge about science, therefore, your personal beliefs do not conflict with your knowing accurate facts about science.  Nor are your beliefs an excuse for ignorance </a:t>
            </a:r>
            <a:r>
              <a:rPr b="0" i="1" lang="en-US" sz="2000" spc="-1" strike="noStrike">
                <a:solidFill>
                  <a:srgbClr val="000000"/>
                </a:solidFill>
                <a:latin typeface="Arial"/>
              </a:rPr>
              <a:t>about science</a:t>
            </a:r>
            <a:r>
              <a:rPr b="0" lang="en-US" sz="2000" spc="-1" strike="noStrike">
                <a:solidFill>
                  <a:srgbClr val="000000"/>
                </a:solidFill>
                <a:latin typeface="Arial"/>
              </a:rPr>
              <a:t>.</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Science (and this class) Are Not…</a:t>
            </a:r>
            <a:endParaRPr b="0" lang="en-US" sz="4400" spc="-1" strike="noStrike">
              <a:solidFill>
                <a:srgbClr val="0033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cience is tentative!  Science can always be improved, it is one of the things that MAKES it science!  The fact that it is never finished is exactly what makes it so powerful and exciting.</a:t>
            </a:r>
            <a:endParaRPr b="0" lang="en-US" sz="2400" spc="-1" strike="noStrike">
              <a:solidFill>
                <a:srgbClr val="003300"/>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We’ll learn about the most current status of scientific knowledge as understood by the scientific community of the year 2008, the best explanations that we have right now.  And you all will be blessed with lives in which you watch those explanations continue to improve!</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IS Science?</a:t>
            </a:r>
            <a:endParaRPr b="0" lang="en-US" sz="4400" spc="-1" strike="noStrike">
              <a:solidFill>
                <a:srgbClr val="0033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nking about what you already knew and what you gather from using PLORNT, come up with a good definition for science that makes sense to you.</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What IS Science?</a:t>
            </a:r>
            <a:endParaRPr b="0" lang="en-US" sz="4400" spc="-1" strike="noStrike">
              <a:solidFill>
                <a:srgbClr val="0033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cience is vast and complicated, but here’s one way of summing it up that I think is pretty darn good.</a:t>
            </a:r>
            <a:endParaRPr b="0" lang="en-US" sz="2800" spc="-1" strike="noStrike">
              <a:solidFill>
                <a:srgbClr val="003300"/>
              </a:solidFill>
              <a:latin typeface="Arial"/>
            </a:endParaRPr>
          </a:p>
          <a:p>
            <a:pPr lvl="1" marL="713160" indent="-274320">
              <a:lnSpc>
                <a:spcPct val="9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reasoned consideration of observable evidence, are always tentative, and are always constructed by community consensus.</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01:15:32Z</dcterms:created>
  <dc:creator>Rebecca Stang</dc:creator>
  <dc:description/>
  <dc:language>en-US</dc:language>
  <cp:lastModifiedBy>Rebecca Stang</cp:lastModifiedBy>
  <dcterms:modified xsi:type="dcterms:W3CDTF">2008-09-01T01:37:46Z</dcterms:modified>
  <cp:revision>14</cp:revision>
  <dc:subject/>
  <dc:title>9/5  What is Science?</dc:title>
</cp:coreProperties>
</file>